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8FD2-B1F5-409C-B8F2-BE0A5F565BC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5D2D-2CFD-4CDA-BC92-599694BF52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3F70-11A3-4964-BBE7-401B2C88CB5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60BB-4255-43BC-80C5-3F5CF58AF59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BD0C-C14C-47DE-A49E-1B9A09A32B7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A51D-0FD5-4E55-94C2-A03F9D0143A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8841-9491-4454-8094-6BB1F30435C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6D48-D58F-4B47-8C31-582EC7567FA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4DFC-24DB-4148-B9B1-9D9C9D2F531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1851-5329-44D2-8A51-E9B18DD2ED1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EFB5-1D6C-4F73-B3C9-06499A5268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0C09-DF5F-4F27-AB00-0FD8687CD57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4BC6-010D-424C-9EC9-0B328E2CE76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99DD-4171-4869-9970-AADC5A74786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B66D-64A1-4EA7-8B82-C9D9DE7A090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8779-0B5C-40A2-BB24-AFD0DE64711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AD4F-B445-4289-A3B0-FCC664D6AD8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ECAE-7F30-4F03-9057-E9D8FD2B967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2785-A6B4-4773-8D32-61D51B6FBCF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7CB8-DFE2-458B-B5BD-D3194CACB07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0D4B-7492-42F7-A580-2C3F8711283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2879-DEEF-4D9B-BAEA-A6105C238D2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0312-4C90-4D1E-8A36-FFD7AB42207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C2E1-EA28-4163-AD7D-7CA2AA55AEB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BCC8-23C8-4F1E-A9A7-2F28B04F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81A9-B11F-4E9F-90AC-0F60F36D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737A-8344-428B-BF65-131BE175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28E8-563C-4878-AA78-2C3F4DEB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E2A-9E33-4CBE-85E1-34DA881F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9DC-0990-41E1-A937-7AE56EF6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2F13-C8EC-4190-A754-8DB00D95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8304-1407-4B8F-A82A-AA5F0B16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5EFC-2D88-47FA-8821-00575629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9101-0339-44E5-ADEE-90C1A6B5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B05-EBE5-4EFF-A9E0-765C7C4B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4D0-2F78-43D0-8D68-CE0AFCC4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2488-BA78-4256-9336-A25C16A754B1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굴림"/>
              </a:rPr>
              <a:t>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  <a:ea typeface="Arial"/>
              </a:rPr>
              <a:t>n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너，당신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没关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méiguānxi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괜찮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èxi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고맙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아니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客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èq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사양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é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없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事</a:t>
            </a: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儿</a:t>
            </a: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hì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úyò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할 필요 없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감사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大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ji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러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同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tóngxué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학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  <a:ea typeface="Arial"/>
              </a:rPr>
              <a:t>hǎ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좋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晚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wǎnshang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저녁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一会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íhuì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잠시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잠깐 동안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Arial"/>
              </a:rPr>
              <a:t>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í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152320"/>
            <a:ext cx="63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Arial"/>
              </a:rPr>
              <a:t>당신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200" spc="-1" strike="noStrike">
                <a:solidFill>
                  <a:srgbClr val="000000"/>
                </a:solidFill>
                <a:latin typeface="Arial"/>
              </a:rPr>
              <a:t>你의 존칭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早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zǎosha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아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再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àiji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205240"/>
            <a:ext cx="638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잘 가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또 만나자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明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míngtiā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내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만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老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ǎosh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선생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们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들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복수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下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àw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오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对不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uìbuq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미안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2:03:04Z</dcterms:created>
  <dc:creator>System</dc:creator>
  <dc:description/>
  <dc:language>en-US</dc:language>
  <cp:lastModifiedBy>System</cp:lastModifiedBy>
  <dcterms:modified xsi:type="dcterms:W3CDTF">2014-01-27T02:37:10Z</dcterms:modified>
  <cp:revision>4</cp:revision>
  <dc:subject/>
  <dc:title>슬라이드 1</dc:title>
</cp:coreProperties>
</file>